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E98-4ED2-4302-BEF2-B69F0F46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085-2E36-494C-A0F5-76FCBD2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2D0-8B1C-4F72-A462-CE03E759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97F-5236-4260-8285-EBDF1D52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3E3-D14F-4786-8F5E-BFC02DFD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B7D-7F3D-47DE-B707-65826232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7D3-CC6A-4692-89C9-0673631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F6E-5B77-4C77-A29C-D9F551FE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FCC-31B7-4ADA-8227-D59DE7B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0A8-AD33-413E-AF98-1437A3D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174-5FE1-441E-954C-297E2E9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4C2-CB1C-4F4D-A57F-F44C972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736-4F56-4C55-A678-872452B5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SG2aSEF-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eme Ski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 Slopes and their S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: Students will find rates of change from tables and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find sl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133720"/>
            <a:ext cx="32572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304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here and begin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page 286: 7-23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rate of change cons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54864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stant rate of change (CROC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0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slope and rate of change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section is the steep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an easy way to tell which section is the steepest, without having to point t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805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eep is the steepest s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0529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29604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5486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14852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3434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weird sl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fined/No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3:12:31Z</dcterms:created>
  <dc:creator>Christopher Clark</dc:creator>
  <dc:description/>
  <dc:language>en-US</dc:language>
  <cp:lastModifiedBy>grahams</cp:lastModifiedBy>
  <dcterms:modified xsi:type="dcterms:W3CDTF">2013-01-24T14:22:37Z</dcterms:modified>
  <cp:revision>11</cp:revision>
  <dc:subject/>
  <dc:title>Slide 1</dc:title>
</cp:coreProperties>
</file>